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B30F-53FA-4DA0-86A3-3649C4EC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4E8B-6E9C-4FE6-9B05-C7714698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9059FE-A1FA-41DE-B276-FF1CB38A1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CD0752-419C-487E-BFA4-4270501D8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0A7863-1188-42EC-917D-455A37E1A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17CD5-5792-4F1A-BE11-376D0261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88F84-2C66-473C-9570-3A5AAD8E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01AC04-EE0E-48A8-918F-2B242B22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BA698-DE28-445C-9AD9-2DE586BB6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97C49-81F7-4E2C-AC6F-7726D4C52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E8EF70-D350-45C3-B334-BC5961255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8BAD63-C787-4A3C-A997-A5339C6D9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E783-AABF-417F-AB9C-BB349133E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B3211-ABA3-423F-B342-91695A38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202942-432F-445B-ADA4-8E21C371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171D8-20F5-480A-8663-E80589B03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B4DF9-FC5A-445B-9BAD-7D991A08D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69A4D7-2D03-40A5-8D54-AC5E02E54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B96761-2458-4404-B164-4AC257A72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09D9F-9D82-42DD-8B8D-03BF2039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50DD8-C12F-4822-9E5E-3902CB17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1006A5-2471-49DF-BF30-892B3B23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4934F5-9B1B-4DF2-8EDB-4E8FFE09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8194-ABAC-4711-BDAC-0968F8A6C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770A99-0798-4AD0-8297-FC6E958C5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571521-3D65-4233-8A7B-F144EBCF9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9D7AA4-D555-4FD7-9B04-E27DF140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99AB0-62E7-4389-8BD0-84715C1DD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BD7196-EB51-4D4E-99ED-3A9CE530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8FDB9E-D321-4B90-B674-4B963D41D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35B3D2-BDC5-489D-94EF-00907EBF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3DC45-8A92-4E4B-A10E-C262A9303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29B5D2-2172-42AF-8259-55DA5AD5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23001F-D872-4AFA-80B6-9467EB1D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9C35-B02F-4530-B071-BF7946D1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34A6F4-DDD4-4C3C-9D4B-A4C9CC2F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BC67AB-B073-4108-8F5D-48A0F9CE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43D65B-EE1F-4038-803D-77922F423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976750-7C73-4619-BBED-F9363DB1A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5E8330-517F-41A6-B9A1-FBAB3A69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3056AE-2932-42B9-A4DD-3ABE90A59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2BAF2-7130-42BC-A307-E0CBEDB6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30FBE4-4FD5-40DC-A33C-C66E99D8D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0CF710-6C96-4CAE-8D63-66A71BC2B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52779F-93B2-4385-9D88-B4EB5B8A6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4DF9-924B-416C-A749-861CD5C1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38A8CB-631C-4AF2-87B9-0FD1A00E4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889C2-FDB6-41DF-B827-2F2E1A3A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39BAF-1B49-454D-B406-6D7E5AC1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52044D-4BF3-4A76-99CB-47B0D80A7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74C03-AF1E-4D1A-B28A-6C45C6515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BA6600-368F-4630-8D5F-20A43C7D1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524764-058A-4F9B-8AF8-B74A995F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CF9237-7B06-45EF-B296-1D23AC54A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02B2FE-A017-482C-A09A-721D45CC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B8F29-1822-4991-9D23-0FA8B462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84E4-D67F-4A2C-975A-7315E550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754771-B4FF-4075-B912-DC134A3F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A37B8C-0577-4A5F-A74E-E9708C88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B8D02A-8DBB-4D4F-BBD4-168CE3273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E3751-1BEF-47D5-AAF1-89779B25F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FDCB95-97DC-4EF1-A0E5-C5912875A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9295D3-E553-4537-ACD8-A1CF04E3E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EB24B0-E26E-4AE8-A936-18495C7F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910E3-7B0B-4FED-A5DD-34F32D638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FB725C-7217-475C-A6C8-B960E6E8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47991F-AA6C-4854-8208-97EABEB7A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D1BC0-2239-4441-A6AC-9440E5CFD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108263-908A-4B09-B803-7C614C58B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28CE9B-A5CE-4E87-A4D6-91584BDC0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54FA08-A270-49D4-88F7-8E8646B9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02CD9A-F552-4ABA-BE4F-9503F6F6E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ADA1F2-1B3F-4CA4-894A-68C14EE62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BCCFA0-707C-4B44-A1B9-07CF5A87D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8970D1-C76C-4CD0-BB96-E0A94A8E6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1B8EEB-E87A-4431-AFF0-91C0819DC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F9EABD-FDF9-46D0-8566-92E0F711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41BBFD-B1ED-4EC2-847F-5D4BC6C1B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6F49C-E27C-443E-BF2F-962CF215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A44CBF-388D-49F7-8A78-017B8F79F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946A5D-D615-4886-A21C-CD9C3009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51A74B-1A5A-44CA-A3CA-9C96725F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B2CC3-CC2F-47ED-A16C-1B794B45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2CC239-1999-43DB-8F84-95002079B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59E670-C7EA-4C81-90AF-0DF26E76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3BA11F-AB6C-4280-B6A7-61A91992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D2C8E6-DFEB-416A-AE51-2FD9C7CB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ED4E30-DF23-41EC-A25F-860AA592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2A84F2-7191-45C5-BCDC-D4F543E97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7563-FA2E-4DAB-88F1-32088EA8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40A248-3143-4A5B-A6C1-4B49001E4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82DB02-CDD2-4CE9-B133-28A185A3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01DB4-2127-4BBB-9193-5943CEDE8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E0316A-2AB5-439B-A96F-7BC7FEEA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B99E83-EE52-411B-A6EB-41ED8B94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CFA076-8A30-47D8-BEE5-26A368FB5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03C3C2-3104-462B-8C4C-87779503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DD82BB-C77F-4E60-92A2-56BF537E8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9EAF0E-349F-4D87-A53C-5B3C72A16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EA510-4E2C-46BA-BFB7-0E5640E8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77406-B207-427E-AA1E-CF28A363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9B5205-2845-498D-95F9-7DC773F7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886A73-996C-4E8B-881B-E60F71645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3BD124-7BFB-4EA9-A9EA-0FBB9EFB5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BD7906-E021-4489-B2E4-36856DAA0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B9873E-1332-4854-9895-80CD27EA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39A423-14EC-46AA-B0E4-6B1F33B7D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1B755C-6568-4202-B427-8D1659FC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074933-A026-4A09-A3CF-F1A3A233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4605DA-B0EB-4DFC-999D-B33A4555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9BF25-AF3A-4C44-AE38-055CC784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1C3E-9937-4BBA-B163-18F01AB70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72395-6FF4-4F37-8E3D-49877F69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D00967-FC7E-4F1F-A13C-6902B2C2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E27300-ADEB-485A-B975-9E7A7FEA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CFD240-C8C4-433B-AA0A-6C627446F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625976-DBED-4004-BD5B-B98AE470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E1D69B-8D67-4344-837F-C395859C2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E35687-1A01-40E8-8344-5D302861A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85E8C8-8D55-4C53-A66C-38C8FC3B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113FBF-8164-4F4B-B5A4-488177F9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C26771-B334-49FA-A3AF-51F16867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102C4F-69E2-4FE1-AD0E-7B8673D5E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77C00-E86F-4FE8-9458-0B1EB9D2C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A00C07-531F-4830-981A-675063934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740121-3138-472B-AB23-4A42502C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706530-939A-435B-AEEA-1B7BB8CA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854FCD-FE91-41F6-9CF4-02C86A92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99A23-BF72-40AC-8F49-87B0F2693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EE0938-E708-4EBC-945C-E2075CA9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DE66F1-4063-49EF-BECA-6472AFD0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F1D56C-194F-4CE8-BDDE-B477B3AE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FCD6F3-47B1-495D-8AA8-55B0DFEF0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E7FA80-59F1-40DC-AD30-9310792A1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DD4A-CD01-4EA2-BCB3-19BAF9F93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9DA525-D501-4B18-8DFD-80CE83CFD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C8C06-D6D5-4796-BA72-A43CCE65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D3B41E-9C1A-468B-910B-C58C9C32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D463D8-1992-452A-83C3-65D35A10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720C7-A5D7-49C3-9C18-1ADAB0F91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F3759D3-3468-4371-9B25-1BE177ED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6CD9B-07CA-4065-BAC9-D0D37D4C3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E6318F-F26A-4DC5-88E5-A223D6F25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22CDCF-530B-4F7A-BE67-DD1ADD20F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B02CF0-C963-48BD-891C-B62200123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2DB7-4940-4464-8FF9-5806AF522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DF13A3-8716-4977-9D96-FF0398D9A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2358A59-A954-4060-A0BC-78B8A0D2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8717DD-124B-40B1-BFD2-E7C11D3EC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69F8C6-D7B6-41CE-9141-B79490CAD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CEB78-7D7B-43C4-AFA6-C511192B1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4784747-C9B5-40D8-A0F8-20AE100F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5056E30-90B7-4DEF-9AA5-B85EA95B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8772CB-5CD0-4136-A14D-7C2F2194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DB83CE-04CD-4ED5-A296-0C9DD228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8CA29-49EB-43B6-A14F-5F91C164E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5DF5-8F79-4370-B82E-D9692CB07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C77A83-90C7-492B-A29A-84B4F14DB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53E38D-E2C5-4A67-A380-A8D0C9E0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6E7B22-A41A-45D2-BE40-0AA62BF9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C9194D-45A5-48C2-83B5-37FC6586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B160D26-9A85-45E1-9167-F8F3C2D7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08EE6A-C5EF-45B6-9410-97C96CCFD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555B19-A0D2-44F9-B224-8DC1A5F5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EAC6C2-2987-44E5-B96A-3A6B9328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325B45-2F3B-4731-9B1D-79E772D8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03A754-CF70-4CFE-8449-7A577791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2085C-447B-4597-B046-64BA1D747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0C34AA-D24E-4418-BA31-EE1B3990C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5C786A-3584-4B73-BFDF-B5CA52F8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31B09D-6575-4E4A-9460-7CF2DEC6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F3F1D-4AA5-4C48-BAB7-BAE79811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112C8-B527-4072-833C-E9AB6A547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4003F-34FF-4D7C-AD7D-83A2D765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BC6AA-C0BA-457B-B393-813822EED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6454-A2EA-43BD-B3ED-0CBBA19A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C8D57-4507-46B8-968A-88C516442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1647D-1743-416D-8B6B-70F51960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D2F06-AE76-4E5F-83E2-99179461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36BE1-681E-4D4C-9333-2DF6318A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BDDB38-FA85-4990-BB5A-29D369C4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68165D-0469-4745-AEB2-1FBD5A59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2A95A1-2991-4211-B201-39FB831F0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0CBB3-5E65-4B46-B4CA-54BD3F9F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F82EC5-DF7F-49E1-9C1E-99E2093F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B0DB1-E39F-4DD2-BC0E-11341BEC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AD374-BA3A-432F-91E5-5AD554B8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F8419-28AB-4BA4-BE2A-D064BEC9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38BB3-6B3B-4766-8D07-D47293383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18BBC-C9B5-4FC4-83F7-4C8E894D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C1753-6CD2-4EAF-B410-09E8EAAD8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E191E-83B1-4700-8CA1-9C1DFF20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CC8C9-333D-4E6E-8E85-554E35C8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0B6A8-AA4D-4D2A-BFE6-1FE2F9792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04EDD-FB6C-4C43-A688-F98C6872D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CD54E-6023-4514-B72F-7D62A8D0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8B98B-D13B-43CB-8A31-E88E4E514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F9C-1A65-429D-8A72-3A70B6C19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BC2498-14A3-422C-8E75-590724815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32F54-AB48-49FF-8AEC-AC806065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E8D7C5-9CB7-4834-8600-164675989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E4C42C-ABF6-4BBD-82D2-36BBE9A0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06FAB-3E8E-43A3-9E3E-6CE1CD24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8ACA9A-E306-4A1B-BE1F-D2F20638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67C4EC-AFD9-45C1-91FA-A26BBE2B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67C6E-F34D-4BEF-B962-34041CFCD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250F51-1D9F-4876-9B40-1D536A039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13263E-E84A-4443-A018-1E309C0C1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80C8-A5C5-4422-A7C6-55C43EFE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FA75C-1014-4E26-BE4C-E31054B57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81B06-FEDA-4D71-84F0-E066C4030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72BD9-F37A-4D18-B167-0DFB116E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AE938-885E-4F12-86E3-A5AE3936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F7522-1080-475E-B1EE-BC02F5DB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3EE5DF-A750-48A2-9891-13E71299C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65920-DA22-4450-A319-6A7FE4A10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90243-6A5B-40D3-884A-E70DB9CE9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28867-52A6-431E-85A7-ED825F1B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53D8D-14F5-45F7-96DE-8E99A52C6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054F-A1DA-4F39-9FA4-80580BF4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0300B-6151-494B-9256-BD90E0DB6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D5177-77F4-4E92-91AA-482B762AA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11537-EE3A-4936-A46E-951F927CA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261B7-776C-4378-BF13-9A09C0635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27BE9-78BB-4E58-999F-7F919CED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F7D7C-339D-4166-B101-415FFDF9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46A49-83CE-48A3-8A91-7D9D108DE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26291-ED0A-47ED-A966-5B291AA13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A85D11-D70A-4FBD-AD15-694B064C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95619-FA15-4FB9-985A-B7CCD803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D233-71E6-40FE-A25B-2D5E6376D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0CCB62-3767-41B1-A456-4A708C705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D50C0-F64C-4E6E-9235-9DFE0BF0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6BDC8-F4A6-4887-A7DB-601FA8A7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D8694-D285-457F-8339-0E03D9F57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8AC3D-5937-42EA-B74D-495779C1D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CFFC9-2198-49F7-992D-2D98F8599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75C1E-3A04-4152-AEC9-4B5AB671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E31AA-A22D-4130-A5B7-0A37190AA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37D97-F56F-49CB-8B34-2E541302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185AF-A4F1-4978-84BA-269CDE614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C8B2-EA73-493D-A146-5F7C30E62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A8C6B-949E-4193-8A54-56570CEC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19EE32-74E8-42E6-A1CB-45B401E8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1E8A83-56F5-4519-931F-789275F40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406A8-7455-4BFB-81AB-D83C95C8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7C229-C24E-44F4-9924-1C7FE55F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A453F-2B3E-4DAA-93C1-A0492EE1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F39A41-5FFC-4473-94A6-ED42A6B40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CE9C5-8671-4717-A856-0B1A67FEC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C9B2A9-106E-4770-8E7D-A83E6C432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48139-64AF-4BBB-BEC9-06AC2321F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5EB72-811D-47E7-B996-7778AC5E54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6BB47-7967-4261-BEA3-4EFE557166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85A9A-8682-428B-9A49-D71AEDA1B4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223C-0D6E-4787-8819-8B690B5BB5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F9549-B78D-4593-AE84-B13F2622E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A5BD0-1D71-423A-8FEC-FAAFC39142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D1DBA-5D59-4B36-B73C-5A13B71996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2C2AE-CDEA-4126-8138-45FB21E270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219D-FF9D-49C5-BA99-91D4088D79C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87FE-C71B-457A-A4EC-7E0CB5BFC5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F11B-FD7A-4150-8E9C-B9059C7761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6661C-6507-4C72-95C9-59D397CB9A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A7597-0232-4892-823A-C446EA6EE0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9DD94-F711-44E9-B7FE-E5AD418542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B5CA0-896B-4E53-8C30-25D4C3DE7B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B2AA-5DFA-43D0-A5C6-FA3FEFE995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C30EC-BC0D-4D74-AE13-68F9EEFEC1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B73A-0E3C-45AB-8384-F2B6EA8C22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98F2E-461A-41F7-8355-0574443A2D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E6D4-FCFD-472F-9671-9D19ED9DB0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3036-8301-4357-A1A1-7BCDD807AF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153BC-205C-41FA-BA1A-0C93015C12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7DE21-794B-485D-976C-4E70956E87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DB15-15EF-4BD7-8959-72F2F5C2EA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DFE30-D4E3-4E45-BEAD-D91308B4EB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42E3-FDF7-46B3-920B-F15C51B7C5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4FB2-EA14-4882-8682-CD4EFB0D0F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8334-E032-4036-9EDF-AACCF18E3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F0ED-8923-4D7C-94F3-6747DA2373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F343D-0BB7-4ED6-8187-5F9B5084A1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E9F1-ABB8-4409-A4CA-3D19D2186E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ABC44-4E5E-483A-8E76-AA5EAC9E45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C8B5-4E48-4118-A162-821358CD8FD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EBB99-194B-4AE9-ACE7-BE31018927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51EB-7FE5-49E8-9180-0200821C44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8B931-F16A-48C4-9C96-5E695871B5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29BF-A4B4-47B1-AF08-AC803ED437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8603F-36C0-4C3D-963F-AC27842DC0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F9BA-8DE3-4132-8033-138E1A0439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3390C-BB93-40EA-B161-F938CFC2D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728800" y="2116080"/>
            <a:ext cx="3686400" cy="90504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1400040" y="3622680"/>
            <a:ext cx="634392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9" name="图片 1" descr=""/>
          <p:cNvPicPr/>
          <p:nvPr/>
        </p:nvPicPr>
        <p:blipFill>
          <a:blip r:embed="rId1"/>
          <a:stretch/>
        </p:blipFill>
        <p:spPr>
          <a:xfrm>
            <a:off x="476280" y="2238480"/>
            <a:ext cx="8191440" cy="2381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2"/>
          <a:stretch/>
        </p:blipFill>
        <p:spPr>
          <a:xfrm>
            <a:off x="1116000" y="2809800"/>
            <a:ext cx="2160720" cy="44928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3"/>
          <a:stretch/>
        </p:blipFill>
        <p:spPr>
          <a:xfrm>
            <a:off x="971640" y="4062240"/>
            <a:ext cx="1655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4" name="图片 1" descr=""/>
          <p:cNvPicPr/>
          <p:nvPr/>
        </p:nvPicPr>
        <p:blipFill>
          <a:blip r:embed="rId1"/>
          <a:stretch/>
        </p:blipFill>
        <p:spPr>
          <a:xfrm>
            <a:off x="73080" y="893880"/>
            <a:ext cx="8999640" cy="56102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2"/>
          <a:stretch/>
        </p:blipFill>
        <p:spPr>
          <a:xfrm>
            <a:off x="1476360" y="2276640"/>
            <a:ext cx="1150920" cy="44892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3"/>
          <a:stretch/>
        </p:blipFill>
        <p:spPr>
          <a:xfrm>
            <a:off x="3780000" y="2924280"/>
            <a:ext cx="863280" cy="44928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4"/>
          <a:stretch/>
        </p:blipFill>
        <p:spPr>
          <a:xfrm>
            <a:off x="1547640" y="411948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78" name="Picture 1" descr=""/>
          <p:cNvPicPr/>
          <p:nvPr/>
        </p:nvPicPr>
        <p:blipFill>
          <a:blip r:embed="rId5"/>
          <a:stretch/>
        </p:blipFill>
        <p:spPr>
          <a:xfrm>
            <a:off x="1979640" y="4738680"/>
            <a:ext cx="1440000" cy="44928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6"/>
          <a:stretch/>
        </p:blipFill>
        <p:spPr>
          <a:xfrm>
            <a:off x="1547640" y="5359320"/>
            <a:ext cx="1008360" cy="44928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7"/>
          <a:stretch/>
        </p:blipFill>
        <p:spPr>
          <a:xfrm>
            <a:off x="2050920" y="5964120"/>
            <a:ext cx="1008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5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61920" y="966960"/>
            <a:ext cx="9018720" cy="492408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2"/>
          <a:stretch/>
        </p:blipFill>
        <p:spPr>
          <a:xfrm>
            <a:off x="1116000" y="414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7" name="图片 1" descr=""/>
          <p:cNvPicPr/>
          <p:nvPr/>
        </p:nvPicPr>
        <p:blipFill>
          <a:blip r:embed="rId1"/>
          <a:stretch/>
        </p:blipFill>
        <p:spPr>
          <a:xfrm>
            <a:off x="1152360" y="1000080"/>
            <a:ext cx="6839280" cy="48578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3"/>
          <a:stretch/>
        </p:blipFill>
        <p:spPr>
          <a:xfrm>
            <a:off x="1547640" y="28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90" name="Picture 1" descr=""/>
          <p:cNvPicPr/>
          <p:nvPr/>
        </p:nvPicPr>
        <p:blipFill>
          <a:blip r:embed="rId4"/>
          <a:stretch/>
        </p:blipFill>
        <p:spPr>
          <a:xfrm>
            <a:off x="1476360" y="414972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" descr=""/>
          <p:cNvPicPr/>
          <p:nvPr/>
        </p:nvPicPr>
        <p:blipFill>
          <a:blip r:embed="rId2"/>
          <a:stretch/>
        </p:blipFill>
        <p:spPr>
          <a:xfrm>
            <a:off x="318960" y="1609560"/>
            <a:ext cx="8504280" cy="363888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1403280" y="2349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1403280" y="292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1403280" y="35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1332000" y="414972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7"/>
          <a:stretch/>
        </p:blipFill>
        <p:spPr>
          <a:xfrm>
            <a:off x="1403280" y="4653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95120" y="1038240"/>
            <a:ext cx="8751960" cy="47815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3"/>
          <a:stretch/>
        </p:blipFill>
        <p:spPr>
          <a:xfrm>
            <a:off x="1187280" y="3573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2" name="图片 1" descr=""/>
          <p:cNvPicPr/>
          <p:nvPr/>
        </p:nvPicPr>
        <p:blipFill>
          <a:blip r:embed="rId1"/>
          <a:stretch/>
        </p:blipFill>
        <p:spPr>
          <a:xfrm>
            <a:off x="514440" y="1424160"/>
            <a:ext cx="8115120" cy="400968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971640" y="148428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971640" y="321300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7" name="图片 1" descr=""/>
          <p:cNvPicPr/>
          <p:nvPr/>
        </p:nvPicPr>
        <p:blipFill>
          <a:blip r:embed="rId1"/>
          <a:stretch/>
        </p:blipFill>
        <p:spPr>
          <a:xfrm>
            <a:off x="905040" y="2262240"/>
            <a:ext cx="7333920" cy="23335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281160" y="1614600"/>
            <a:ext cx="8580240" cy="362880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1258920" y="2349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5" name="图片 1" descr=""/>
          <p:cNvPicPr/>
          <p:nvPr/>
        </p:nvPicPr>
        <p:blipFill>
          <a:blip r:embed="rId1"/>
          <a:stretch/>
        </p:blipFill>
        <p:spPr>
          <a:xfrm>
            <a:off x="609480" y="1967040"/>
            <a:ext cx="7925040" cy="292392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"/>
          <a:stretch/>
        </p:blipFill>
        <p:spPr>
          <a:xfrm>
            <a:off x="900000" y="1989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633240" y="1952640"/>
            <a:ext cx="7875720" cy="2952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57600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3" name="图片 1" descr=""/>
          <p:cNvPicPr/>
          <p:nvPr/>
        </p:nvPicPr>
        <p:blipFill>
          <a:blip r:embed="rId1"/>
          <a:stretch/>
        </p:blipFill>
        <p:spPr>
          <a:xfrm>
            <a:off x="166680" y="819000"/>
            <a:ext cx="8809200" cy="522000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2"/>
          <a:stretch/>
        </p:blipFill>
        <p:spPr>
          <a:xfrm>
            <a:off x="3708360" y="4206960"/>
            <a:ext cx="1871640" cy="4492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3"/>
          <a:stretch/>
        </p:blipFill>
        <p:spPr>
          <a:xfrm>
            <a:off x="6300720" y="482616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4"/>
          <a:stretch/>
        </p:blipFill>
        <p:spPr>
          <a:xfrm>
            <a:off x="6156360" y="5430960"/>
            <a:ext cx="1655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2:14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